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 slide and a handout but I wasn’t sure if they needed it as a handout. I thought we might take a quick show of hands to see how familiar participants are with open ques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pen question BLM 4.2 and explain that they will work together to open up these tasks taken from textbook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give the slide before as a handout then this one can stay up while they wor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finish H chart and then use quotes from this slide to reflect in their journ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screen as participants file in and get read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of goals from MATCH templ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instructions on how to pile post its by topic gradually adding in more tables as instructed in match template. If groups are too big split up. Or you may need to combine two related topics if group is sm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identified by Ruth in her work that participants may wish to keep in mind. For the propotional reasoning one think of the table and chair problem where a child uses the proportion of seats on two tables to generalize to ten tables without considering how the two end seats are the consta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20 minutes to explore CLIPS. Ask them to keep their grade in mind and consider how they might change/ adapt their instructional practi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with websites. They can look at some of them if they have time. Remind them that the PPT will be on the wiki so they don’t have to copy them down. Leave up while they look at CLI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differentiate instruction in class is to use open questions. We saw examples of this throughout Cathy and Ruth’s presentation as they gave choice and had children justify and generaliz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1EFAF-695A-4907-AF1D-6A4F63A76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39A79-2FF2-45EB-A27D-19A0E7231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2BB31-60EE-4293-8033-81DE576BC2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0E1E14-DE54-4F57-8583-95630D3E6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5DAE-C68B-4FBC-B215-3A6E92537C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6CA1-6225-4FFB-A696-37CC04AA0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C6328-C23C-40E2-8DDE-156F52C166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BB7DDEAA-C904-4DEC-809A-5CAA45F816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2BEC79E-2656-4600-81AE-2D9FBA7B8E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1D979-7E9D-4121-B329-E3A0D84335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D88F4-A838-4D2E-9917-F0C8A9D39F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D8EAB-60AF-4E3B-90D1-155394905C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3453-44FC-41B0-85AE-AF0213561A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C25F-8599-4E83-8EA9-29AAE3E0A6D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ic Think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77"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1: Start with the answer.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nswer is 10. What might the questio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2: Ask for similarities and differences.</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y= 2x and y= 3x alike? How are they differen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3: Allow choice in the data provided.</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rtain pattern has the number 5 in it. What could the patter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4: Ask students to create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words </a:t>
            </a:r>
            <a:r>
              <a:rPr b="0" i="1" lang="en-US" sz="1600" spc="-1" strike="noStrike">
                <a:solidFill>
                  <a:srgbClr val="000000"/>
                </a:solidFill>
                <a:latin typeface="Arial"/>
              </a:rPr>
              <a:t>increasing, decreasing, pattern </a:t>
            </a:r>
            <a:r>
              <a:rPr b="0" lang="en-US" sz="1600" spc="-1" strike="noStrike">
                <a:solidFill>
                  <a:srgbClr val="000000"/>
                </a:solidFill>
                <a:latin typeface="Arial"/>
              </a:rPr>
              <a:t>and the number </a:t>
            </a:r>
            <a:r>
              <a:rPr b="0" i="1" lang="en-US" sz="1600" spc="-1" strike="noStrike">
                <a:solidFill>
                  <a:srgbClr val="000000"/>
                </a:solidFill>
                <a:latin typeface="Arial"/>
              </a:rPr>
              <a:t>18 </a:t>
            </a:r>
            <a:r>
              <a:rPr b="0" lang="en-US" sz="1600" spc="-1" strike="noStrike">
                <a:solidFill>
                  <a:srgbClr val="000000"/>
                </a:solidFill>
                <a:latin typeface="Arial"/>
              </a:rPr>
              <a:t>in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5: Replacing a number with a blank.</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ight triangles are similar. One has side lengths of 4 and 6. The other has one side length of 12. What lengths could the other 3 sides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1" lang="en-US" sz="1600" spc="-1" strike="noStrike" u="sng">
                <a:solidFill>
                  <a:srgbClr val="00b050"/>
                </a:solidFill>
                <a:uFillTx/>
                <a:latin typeface="Arial"/>
              </a:rPr>
              <a:t>Strategy 6: Using “soft” languag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atios are “almost but not quite” equivalent. What might they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F34C-C825-40F7-B713-52D7661C28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Your task…</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work with a grade partner to open up a few of the tasks for your grad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520D-B9FB-4A05-A380-79D76949E2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2" descr="C:\Documents and Settings\schuyll\Local Settings\Temporary Internet Files\Content.IE5\C2GM00VI\MP900308961[1].jpg"/>
          <p:cNvPicPr/>
          <p:nvPr/>
        </p:nvPicPr>
        <p:blipFill>
          <a:blip r:embed="rId1"/>
          <a:stretch/>
        </p:blipFill>
        <p:spPr>
          <a:xfrm>
            <a:off x="2438280" y="2743200"/>
            <a:ext cx="4280040" cy="2832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84"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1: Start with the answer.</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Strategy 2: Ask for similarities and difference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3: Allow choice in the data provid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4: Ask students to create a sentenc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ategy 5: Replacing a number with a blank,</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6: Using “soft” languag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37F6-FDB0-461A-A2B2-8B20A2633D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Journal Reflection</a:t>
            </a:r>
            <a:br>
              <a:rPr sz="4400"/>
            </a:br>
            <a:endParaRPr b="0" lang="en-US" sz="4400" spc="-1" strike="noStrike">
              <a:solidFill>
                <a:srgbClr val="2b5ca9"/>
              </a:solidFill>
              <a:latin typeface="Arial"/>
            </a:endParaRPr>
          </a:p>
        </p:txBody>
      </p:sp>
      <p:sp>
        <p:nvSpPr>
          <p:cNvPr id="87" name=""/>
          <p:cNvSpPr txBox="1"/>
          <p:nvPr/>
        </p:nvSpPr>
        <p:spPr>
          <a:xfrm>
            <a:off x="457200" y="837720"/>
            <a:ext cx="8229600" cy="4419720"/>
          </a:xfrm>
          <a:prstGeom prst="rect">
            <a:avLst/>
          </a:prstGeom>
          <a:noFill/>
          <a:ln w="0">
            <a:noFill/>
          </a:ln>
        </p:spPr>
        <p:txBody>
          <a:bodyPr lIns="50760" tIns="50760" bIns="50760" anchor="t">
            <a:normAutofit fontScale="85000"/>
          </a:bodyPr>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efficacy teachers attend more closely to the needs of lower ability students.</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 efficacy influences student achievement through teacher persistence, and an expectation that students persist.</a:t>
            </a:r>
            <a:endParaRPr b="0" lang="en-US" sz="4000" spc="-1" strike="noStrike">
              <a:solidFill>
                <a:srgbClr val="000000"/>
              </a:solidFill>
              <a:latin typeface="Arial"/>
            </a:endParaRPr>
          </a:p>
          <a:p>
            <a:pPr marL="518040" indent="-518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uce, Catherine D. (2010)</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B210-A75B-4A6E-AD14-06A99DBD0C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81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Efficacy</a:t>
            </a:r>
            <a:endParaRPr b="0" lang="en-US" sz="4400" spc="-1" strike="noStrike">
              <a:solidFill>
                <a:srgbClr val="2b5ca9"/>
              </a:solidFill>
              <a:latin typeface="Arial"/>
            </a:endParaRPr>
          </a:p>
        </p:txBody>
      </p:sp>
      <p:sp>
        <p:nvSpPr>
          <p:cNvPr id="51" name=""/>
          <p:cNvSpPr txBox="1"/>
          <p:nvPr/>
        </p:nvSpPr>
        <p:spPr>
          <a:xfrm>
            <a:off x="457200" y="1295280"/>
            <a:ext cx="8229600" cy="426744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believe they will be successful set higher goals for themselves, try harder to achieve those goals, and persist through obstac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who believe they will fail, avoid expending effort because failure after trying hard threatens self-esteem. (fear of failure)</a:t>
            </a:r>
            <a:endParaRPr b="0" lang="en-US" sz="2800" spc="-1" strike="noStrike">
              <a:solidFill>
                <a:srgbClr val="000000"/>
              </a:solidFill>
              <a:latin typeface="Arial"/>
            </a:endParaRPr>
          </a:p>
          <a:p>
            <a:pPr marL="3826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ce, Catherine D. (2010 Quote on engaging math and short term memory)</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63B8-81FA-4FED-AA66-81F42767AB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BC3B-CE3A-4667-94C3-EE54E28A97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6" name=""/>
          <p:cNvSpPr txBox="1"/>
          <p:nvPr/>
        </p:nvSpPr>
        <p:spPr>
          <a:xfrm>
            <a:off x="457200" y="16002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CLIPS to consider how young learners can begin to foster a habit of looking for patterns and relationsh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velop open questions as a means to supporting a wide variety of students including struggling learner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3896-E511-44C3-B823-5468F139F9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br>
              <a:rPr sz="4400"/>
            </a:br>
            <a:endParaRPr b="0" lang="en-US" sz="4400" spc="-1" strike="noStrike">
              <a:solidFill>
                <a:srgbClr val="2b5ca9"/>
              </a:solidFill>
              <a:latin typeface="Arial"/>
            </a:endParaRPr>
          </a:p>
        </p:txBody>
      </p:sp>
      <p:sp>
        <p:nvSpPr>
          <p:cNvPr id="59" name=""/>
          <p:cNvSpPr txBox="1"/>
          <p:nvPr/>
        </p:nvSpPr>
        <p:spPr>
          <a:xfrm>
            <a:off x="457200" y="838080"/>
            <a:ext cx="8229600" cy="601992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ds On – </a:t>
            </a:r>
            <a:r>
              <a:rPr b="0" lang="en-US" sz="2400" spc="-1" strike="noStrike">
                <a:solidFill>
                  <a:srgbClr val="000000"/>
                </a:solidFill>
                <a:latin typeface="Arial"/>
              </a:rPr>
              <a:t>introduce math concepts. Structured scenes that have opportunities for student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ction – </a:t>
            </a:r>
            <a:r>
              <a:rPr b="0" lang="en-US" sz="2400" spc="-1" strike="noStrike">
                <a:solidFill>
                  <a:srgbClr val="000000"/>
                </a:solidFill>
                <a:latin typeface="Arial"/>
              </a:rPr>
              <a:t>extend concepts introduced in the Minds On Activities.  Allow for a great deal of student engagement and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Your Understanding – </a:t>
            </a:r>
            <a:r>
              <a:rPr b="0" lang="en-US" sz="2400" spc="-1" strike="noStrike">
                <a:solidFill>
                  <a:srgbClr val="000000"/>
                </a:solidFill>
                <a:latin typeface="Arial"/>
              </a:rPr>
              <a:t>consolidation activities that offer students the opportunity to answer a variety of questions, and to use tools such as the pattern building tool and graphing tool</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What You Know – </a:t>
            </a:r>
            <a:r>
              <a:rPr b="0" lang="en-US" sz="2400" spc="-1" strike="noStrike">
                <a:solidFill>
                  <a:srgbClr val="000000"/>
                </a:solidFill>
                <a:latin typeface="Arial"/>
              </a:rPr>
              <a:t>allow students to further explore material covered in this cluster.</a:t>
            </a:r>
            <a:endParaRPr b="0" lang="en-US" sz="24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7296-E08E-4525-A39E-5828270D31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ost-it Pile Up</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put your name on the back of a post i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ront write one topic from the Patterning and Algebra sessions this week that you would like time to discuss with colleagu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8ECD-61E6-4D65-BF39-DB08952A4CB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4335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hallenges in Moving from Patterns to Algebra</a:t>
            </a:r>
            <a:endParaRPr b="0" lang="en-US" sz="4400" spc="-1" strike="noStrike">
              <a:solidFill>
                <a:srgbClr val="2b5ca9"/>
              </a:solidFill>
              <a:latin typeface="Arial"/>
            </a:endParaRPr>
          </a:p>
        </p:txBody>
      </p:sp>
      <p:sp>
        <p:nvSpPr>
          <p:cNvPr id="65" name=""/>
          <p:cNvSpPr txBox="1"/>
          <p:nvPr/>
        </p:nvSpPr>
        <p:spPr>
          <a:xfrm>
            <a:off x="457200" y="1676160"/>
            <a:ext cx="8229600" cy="373356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a tendency to use additive strategies and struggle to formulate a generalized ru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ttempt to make predictions by incorrectly using proportional reason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ack confidence or inclination to explain their pattern ru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E9CC-075B-48B1-8AE6-D5B0EB23E5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ploring CLI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athclips.ca/</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D785-E733-45E2-B809-4EAD6728312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2b5ca9"/>
                </a:solidFill>
                <a:latin typeface="Arial"/>
              </a:rPr>
              <a:t>Some websites</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i.uu.nl/rekenweb/e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jmathpage.c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dugains.c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ww.nlvm</a:t>
            </a:r>
            <a:r>
              <a:rPr b="0" lang="en-US" sz="3200" spc="-1" strike="noStrike">
                <a:solidFill>
                  <a:srgbClr val="000000"/>
                </a:solidFill>
                <a:latin typeface="Arial"/>
              </a:rPr>
              <a:t>.usu.edu</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3A6F-C3F6-4114-BCCD-1BD959E8F3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8384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2b5ca9"/>
                </a:solidFill>
                <a:latin typeface="Arial"/>
              </a:rPr>
              <a:t>Creating Open Questions </a:t>
            </a:r>
            <a:r>
              <a:rPr b="1" lang="en-US" sz="2400" spc="-1" strike="noStrike">
                <a:solidFill>
                  <a:srgbClr val="2b5ca9"/>
                </a:solidFill>
                <a:latin typeface="Arial"/>
              </a:rPr>
              <a:t>Adapted from Dr. Small </a:t>
            </a:r>
            <a:br>
              <a:rPr sz="2400"/>
            </a:br>
            <a:br>
              <a:rPr sz="2400"/>
            </a:br>
            <a:endParaRPr b="0" lang="en-US" sz="2400" spc="-1" strike="noStrike">
              <a:solidFill>
                <a:srgbClr val="2b5ca9"/>
              </a:solidFill>
              <a:latin typeface="Arial"/>
            </a:endParaRPr>
          </a:p>
        </p:txBody>
      </p:sp>
      <p:sp>
        <p:nvSpPr>
          <p:cNvPr id="74" name=""/>
          <p:cNvSpPr txBox="1"/>
          <p:nvPr/>
        </p:nvSpPr>
        <p:spPr>
          <a:xfrm>
            <a:off x="457200" y="2057040"/>
            <a:ext cx="8229600" cy="30481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question is open when it is framed in such a way that a variety of responses or approaches are possible. The question should be mathematically meaningfu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599B-E4AC-4469-A249-98C3B65C32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Lori Schuyler</cp:lastModifiedBy>
  <dcterms:modified xsi:type="dcterms:W3CDTF">2011-08-11T04:02:06Z</dcterms:modified>
  <cp:revision>36</cp:revision>
  <dc:subject/>
  <dc:title>&lt;Title&gt;</dc:title>
</cp:coreProperties>
</file>